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C585-3808-4F03-B3A0-20D4D1C1F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37E9-FE7F-4BE7-BF4E-5CBB34F87CBB}" type="slidenum"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DE48-8185-46AB-BFB5-320E24C7C71D}" type="slidenum"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14DC-8477-451E-866F-4CFC16946302}" type="slidenum"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762F-6017-46CB-890F-89FCB770B602}" type="slidenum"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27F1-18D7-4364-A05F-286EAE9AF67F}" type="slidenum"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4EC4-B151-4C02-A345-F3D5C17D402B}" type="slidenum"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825C-418A-4D63-A751-391EFB8F8FF5}" type="slidenum"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F9C1-450D-4C3B-9431-C1DC38B96771}" type="slidenum"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8BA1-D487-44F8-A161-45457E9927A3}" type="slidenum"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F103-1063-4BDB-BA59-8E7C5DC325F5}" type="slidenum"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0A83-9F59-4892-AAD8-5B18AE5AFB19}" type="slidenum"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370A-791F-471F-8928-E6DFFE53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1239-A14E-495C-991F-B33E6A33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E8C2-B68A-4E65-BF4B-BA60BCE3C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45BC-2CFF-45F6-A2ED-E13A2329D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C8D6-557D-47D5-B768-0791D66D3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71AD-54A0-429D-86D8-915323B0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6E25-8820-4849-9F4E-68383C63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1AA8-B5C2-44E1-8E73-4D7447D8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9B5F-7D60-4CE9-9E9B-58BC5868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9CA3-4250-4483-AEDA-7A7F7E57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B407-CEEA-4967-82AB-3F4A860E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A69D-7C80-4B8E-ABB9-2741B30C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33BF-7BAB-43FF-A7AF-2F1D09F3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29AC-E42B-445F-94D5-58AE807F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AACE-96F9-42E6-9602-6812E012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F6CF-5D76-4F36-86D4-DD5F87731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F25B-6C56-4A50-AB04-B4E0D5578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52DD-76C4-467F-8B7C-B23605A1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60D3-74CD-4E10-91E8-59E6785E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C2B7-C11E-4B83-8552-FF81A8E8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C937-E4EA-4EDF-BA0A-3B108DA6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5443-0306-4868-841E-0ABD5E94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C216-F9D7-4F2A-8A3E-4CED7AA8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378E-4E5B-4AC5-8FB4-3CDAFAE9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A:\minispir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C177-ACCE-4E48-8D58-03755AA7F056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A:\minispir.G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5514-2378-4161-8565-3F6EE6342C0C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darter.ocps.net/classroom/revolution/revere.htm" TargetMode="External"/><Relationship Id="rId2" Type="http://schemas.openxmlformats.org/officeDocument/2006/relationships/hyperlink" Target="http://www.childlight.com/revere/html_pages/photos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3276720" y="1905120"/>
            <a:ext cx="2971800" cy="3352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Chiller"/>
              </a:rPr>
              <a:t>Story of Paul Revere 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2743200" y="5334120"/>
            <a:ext cx="396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Chiller"/>
              </a:rPr>
              <a:t>Created by Miss Vo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Chiller"/>
              </a:rPr>
              <a:t>Works Cited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02000"/>
                </a:solidFill>
                <a:latin typeface="Times New Roman"/>
              </a:rPr>
              <a:t>Boston Travel Info.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a7f32"/>
                </a:solidFill>
                <a:uFillTx/>
                <a:latin typeface="Times New Roman"/>
              </a:rPr>
              <a:t>paul-revere-house.boston-travel-info.com/ 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I used this website to obtain a picture of a statue of Paul Revere.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02000"/>
                </a:solidFill>
                <a:latin typeface="Times New Roman"/>
              </a:rPr>
              <a:t>The Blue Darter</a:t>
            </a:r>
            <a:r>
              <a:rPr b="0" i="1" lang="ja-JP" sz="1400" spc="-1" strike="noStrike">
                <a:solidFill>
                  <a:srgbClr val="402000"/>
                </a:solidFill>
                <a:latin typeface="Arial"/>
              </a:rPr>
              <a:t>’</a:t>
            </a:r>
            <a:r>
              <a:rPr b="0" i="1" lang="en-US" sz="1400" spc="-1" strike="noStrike">
                <a:solidFill>
                  <a:srgbClr val="402000"/>
                </a:solidFill>
                <a:latin typeface="Times New Roman"/>
              </a:rPr>
              <a:t>s Guide to the American Revolution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a7f32"/>
                </a:solidFill>
                <a:uFillTx/>
                <a:latin typeface="Times New Roman"/>
                <a:hlinkClick r:id="rId1"/>
              </a:rPr>
              <a:t>http://darter.ocps.net/classroom/revolution/revere.htm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I used this website to gather facts about Paul Revere</a:t>
            </a:r>
            <a:r>
              <a:rPr b="0" lang="ja-JP" sz="1400" spc="-1" strike="noStrike">
                <a:solidFill>
                  <a:srgbClr val="402000"/>
                </a:solidFill>
                <a:latin typeface="Arial"/>
              </a:rPr>
              <a:t>’</a:t>
            </a: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s life.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02000"/>
                </a:solidFill>
                <a:latin typeface="Times New Roman"/>
              </a:rPr>
              <a:t>Child Light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a7f32"/>
                </a:solidFill>
                <a:uFillTx/>
                <a:latin typeface="Times New Roman"/>
                <a:hlinkClick r:id="rId2"/>
              </a:rPr>
              <a:t>www.childlight.com/revere/ html_pages/photos.htm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I used this website to obtain a picture of the map of Paul Revere</a:t>
            </a:r>
            <a:r>
              <a:rPr b="0" lang="ja-JP" sz="1400" spc="-1" strike="noStrike">
                <a:solidFill>
                  <a:srgbClr val="402000"/>
                </a:solidFill>
                <a:latin typeface="Arial"/>
              </a:rPr>
              <a:t>’</a:t>
            </a: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s ride.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02000"/>
                </a:solidFill>
                <a:latin typeface="Times New Roman"/>
              </a:rPr>
              <a:t>John Singleton Cople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http://www.worcesterart.org/Collection/Early_American/Artists/copley/biography/content.html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I used a painting of Paul Revere for my title page from this website.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Chiller"/>
              </a:rPr>
              <a:t>Works Cited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02000"/>
                </a:solidFill>
                <a:latin typeface="Times New Roman"/>
              </a:rPr>
              <a:t>Paul Revere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402000"/>
                </a:solidFill>
                <a:uFillTx/>
                <a:latin typeface="Times New Roman"/>
              </a:rPr>
              <a:t>http://oncampus.richmond.edu/academics/as/education/projects/webunits/khistory/paul.html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I used this website to quote an excerpt of the poem by Henry Wadsworth Longfellow.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02000"/>
                </a:solidFill>
                <a:latin typeface="Times New Roman"/>
              </a:rPr>
              <a:t>Paul Revere House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402000"/>
                </a:solidFill>
                <a:uFillTx/>
                <a:latin typeface="Times New Roman"/>
              </a:rPr>
              <a:t>http://www.paulreverehouse.org/index.html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I used this website to research information about Paul Revere</a:t>
            </a:r>
            <a:r>
              <a:rPr b="0" lang="ja-JP" sz="1400" spc="-1" strike="noStrike">
                <a:solidFill>
                  <a:srgbClr val="402000"/>
                </a:solidFill>
                <a:latin typeface="Arial"/>
              </a:rPr>
              <a:t>’</a:t>
            </a: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s life and his famous 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midnight ride.  I also obtained several pictures from here. 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02000"/>
                </a:solidFill>
                <a:latin typeface="Times New Roman"/>
              </a:rPr>
              <a:t>The Historic Paul Revere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402000"/>
                </a:solidFill>
                <a:uFillTx/>
                <a:latin typeface="Times New Roman"/>
              </a:rPr>
              <a:t>http://www.cvesd.k12.ca.us/finney/paulvm/h2_hist.html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This website provided me with a picture of the Boston Massacre. 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02000"/>
                </a:solidFill>
                <a:latin typeface="Times New Roman"/>
              </a:rPr>
              <a:t>Midnight Rider:  A Paul Revere Virtual Museum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402000"/>
                </a:solidFill>
                <a:uFillTx/>
                <a:latin typeface="Times New Roman"/>
              </a:rPr>
              <a:t>http://www.cvesd.k12.ca.us/finney/paulvm/_welcomepv.html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I obtained a picture of Paul Revere at this website. 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Chiller"/>
              </a:rPr>
              <a:t>Early Lif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876920" y="20574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entury Gothic"/>
              </a:rPr>
              <a:t>Born in Boston's North End in December, 1734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entury Gothic"/>
              </a:rPr>
              <a:t>Primary vocations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e9964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entury Gothic"/>
              </a:rPr>
              <a:t>Silver/goldsmith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e9964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entury Gothic"/>
              </a:rPr>
              <a:t>Copperplate engraver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e9964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entury Gothic"/>
              </a:rPr>
              <a:t>Dentis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403884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Chiller"/>
              </a:rPr>
              <a:t>Role leading to American Revolu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Century Gothic"/>
              </a:rPr>
              <a:t>Friends with political activists; member of the </a:t>
            </a:r>
            <a:r>
              <a:rPr b="0" lang="ja-JP" sz="2000" spc="-1" strike="noStrike">
                <a:solidFill>
                  <a:srgbClr val="402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402000"/>
                </a:solidFill>
                <a:latin typeface="Century Gothic"/>
              </a:rPr>
              <a:t>Sons of Liberty</a:t>
            </a:r>
            <a:r>
              <a:rPr b="0" lang="ja-JP" sz="2000" spc="-1" strike="noStrike">
                <a:solidFill>
                  <a:srgbClr val="402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Century Gothic"/>
              </a:rPr>
              <a:t>Gathered intelligence information by </a:t>
            </a:r>
            <a:r>
              <a:rPr b="0" lang="ja-JP" sz="2000" spc="-1" strike="noStrike">
                <a:solidFill>
                  <a:srgbClr val="402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402000"/>
                </a:solidFill>
                <a:latin typeface="Century Gothic"/>
              </a:rPr>
              <a:t>Watching the Movements of the British soldiers</a:t>
            </a:r>
            <a:r>
              <a:rPr b="0" lang="ja-JP" sz="2000" spc="-1" strike="noStrike">
                <a:solidFill>
                  <a:srgbClr val="402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Century Gothic"/>
              </a:rPr>
              <a:t>Courier for the Boston Committee of Correspondence and the Massachusetts Committee of Safet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Chiller"/>
              </a:rPr>
              <a:t>Role leading to American Revolu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Century Gothic"/>
              </a:rPr>
              <a:t>Spread word of the Boston Tea Party to New York and Philadelphi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Century Gothic"/>
              </a:rPr>
              <a:t>Participated in Boston Massacr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Chiller"/>
              </a:rPr>
              <a:t>Famous Midnight R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Century Gothic"/>
              </a:rPr>
              <a:t>Occurred at 10 pm on the night of April 18, 1775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Century Gothic"/>
              </a:rPr>
              <a:t>Rode to Lexington, Massachusetts, to warn Samuel Adams and John Hancock that British troops were marching to arrest the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8098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Chiller"/>
              </a:rPr>
              <a:t>Famous Midnight R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Century Gothic"/>
              </a:rPr>
              <a:t>A signal had to be given to indicate whether the British were coming by land or by se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e9964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Century Gothic"/>
              </a:rPr>
              <a:t>2 lit lanterns indicates that the British were coming by sea; 1 lit lantern would mean by land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Century Gothic"/>
              </a:rPr>
              <a:t>One lantern was lit indicating that the British were coming by land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6687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Chiller"/>
              </a:rPr>
              <a:t>After the American Revolu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Century Gothic"/>
              </a:rPr>
              <a:t>Ran a small hardware stor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Century Gothic"/>
              </a:rPr>
              <a:t>Opened the first copper rolling mill in North Americ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Century Gothic"/>
              </a:rPr>
              <a:t>Died May 10, 1818 at the age of 83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810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hiller"/>
              </a:rPr>
              <a:t>Excerp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Century Gothic"/>
              </a:rPr>
              <a:t>Listen my children and you shall hear 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Century Gothic"/>
              </a:rPr>
              <a:t>Of the midnight ride of Paul Revere, 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Century Gothic"/>
              </a:rPr>
              <a:t>On the eighteenth of April, in Seventy-five; 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Century Gothic"/>
              </a:rPr>
              <a:t>Hardly a man is now alive 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Century Gothic"/>
              </a:rPr>
              <a:t>Who remembers that famous day and year.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Chiller"/>
              </a:rPr>
              <a:t>Paul Revere</a:t>
            </a:r>
            <a:r>
              <a:rPr b="0" lang="ja-JP" sz="4800" spc="-1" strike="noStrike">
                <a:solidFill>
                  <a:srgbClr val="996633"/>
                </a:solidFill>
                <a:latin typeface="Arial"/>
              </a:rPr>
              <a:t>’</a:t>
            </a:r>
            <a:r>
              <a:rPr b="0" lang="en-US" sz="4800" spc="-1" strike="noStrike">
                <a:solidFill>
                  <a:srgbClr val="996633"/>
                </a:solidFill>
                <a:latin typeface="Chiller"/>
              </a:rPr>
              <a:t>s Ride </a:t>
            </a:r>
            <a:br>
              <a:rPr sz="4800"/>
            </a:br>
            <a:r>
              <a:rPr b="0" lang="en-US" sz="2800" spc="-1" strike="noStrike">
                <a:solidFill>
                  <a:srgbClr val="996633"/>
                </a:solidFill>
                <a:latin typeface="Chiller"/>
              </a:rPr>
              <a:t>by Henry Wadsworth Longfellow, 1860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4952880" y="2754360"/>
            <a:ext cx="381024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hiller"/>
              </a:rPr>
              <a:t>My Comprehension Question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Century Gothic"/>
              </a:rPr>
              <a:t>What was Paul Revere</a:t>
            </a:r>
            <a:r>
              <a:rPr b="0" lang="ja-JP" sz="2000" spc="-1" strike="noStrike">
                <a:solidFill>
                  <a:srgbClr val="402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402000"/>
                </a:solidFill>
                <a:latin typeface="Century Gothic"/>
              </a:rPr>
              <a:t>s role in the American Revolution?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Century Gothic"/>
              </a:rPr>
              <a:t>Name at least one vocation Paul Revere had before the American Revolution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Century Gothic"/>
              </a:rPr>
              <a:t>How did Paul Revere warn the colonists that the British were coming?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2" name="Object 6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17334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6T16:14:13Z</dcterms:created>
  <dc:creator>ESD</dc:creator>
  <dc:description/>
  <dc:language>en-US</dc:language>
  <cp:lastModifiedBy>Gladys Evans</cp:lastModifiedBy>
  <dcterms:modified xsi:type="dcterms:W3CDTF">2012-09-01T04:32:34Z</dcterms:modified>
  <cp:revision>23</cp:revision>
  <dc:subject/>
  <dc:title>Paul Revere’s Ride </dc:title>
</cp:coreProperties>
</file>